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4F4-F09C-4A9A-A39D-EE69C032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085-5BB0-4DD1-9C69-BAB654C9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4E36-231D-4383-937B-CD68498D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BLM at the end of Scaffold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29BA-488F-41FC-91F1-9B323FF7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532A-3FBD-4BC4-A601-6E3BA357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F9F9-BA35-4576-B9F3-EC9A1CE0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e if students know what linear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411D-93F0-4787-AD5C-AB1BE33A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B42A-9950-4402-97CF-EE1EA197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m to think about what similar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is was an open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sonable response how do you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open question – value and then look at the qua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M2 to include Big Idea &amp; Lesso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BD1-7867-4957-B4F8-7B79B349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you choose those functions for the students to talk about?  What are you going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rovide for the teachers the graphs so that they can have the discussion, not in the ppt but provided at each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CCC1-0958-4F79-8907-CA1DB43B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EAA5-760D-4B4D-AF8A-F62BD104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62C-8A96-4818-B24C-A50B9093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a number and then tripl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F13E-81D8-4CD8-9F5B-B71714F1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4B1E-9978-4C68-B6AB-D24F5D754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A299-E20C-403C-B0DA-B0745C03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0B9-027B-4EAD-BDF8-EE8F22C0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72D4-CCCE-47BB-91A5-15D65CEC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wording from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do this strategy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rom each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AC87-6BD6-4394-B459-625C2645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C02-64BA-4C23-BBB4-DB4EC509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w a questioning pi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9DD7-D5EA-4590-8C63-8E76CD41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4C3-F712-40CA-A298-B33BC373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DA3-39CC-454C-ADF5-4E584026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BA5-920A-47F0-BBF4-5D4E1B7C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131-2897-48D2-89CE-52380424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31E-22DE-454F-90BD-EADEC1F5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4B6B-8775-4A81-8DA4-732D748E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F34-5803-41BE-BB95-E0B9AFD5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798-CF9B-4867-BD91-CB79B38F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2C9F-FC27-4FC2-8DA1-8B4E2B88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0DA-EF46-47F6-82CE-7A66BC9B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9C8D-2A92-40A3-B5DE-D88839302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AFB-666B-4433-B92E-B84165A18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E2E-0B83-44B8-948D-79ABE43A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EA8-9E83-4B2C-9B7E-E13CF59C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CCC-7B72-453B-A244-9CC495AE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99D-DFBD-408D-A43A-977E901D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1AF-AAA6-46DA-A9DE-845D2C91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33B-5C85-4F29-A40D-724F0147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D16-5B73-4FA7-BF5F-B2F356D2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739-0ADB-4EC0-B076-4FCABD56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2F4-369C-4FBA-984C-2ED7AE06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6E4-A425-4641-9935-CC2507F8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C33-9669-4910-A9D7-0ED5FA85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782-889B-4029-B3EA-34C243C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0E15-6D08-47B1-A2BF-0AF402D02E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050920" y="4941720"/>
            <a:ext cx="648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Day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GAINS_Globe_70smws"/>
          <p:cNvPicPr/>
          <p:nvPr/>
        </p:nvPicPr>
        <p:blipFill>
          <a:blip r:embed="rId1"/>
          <a:stretch/>
        </p:blipFill>
        <p:spPr>
          <a:xfrm>
            <a:off x="0" y="836640"/>
            <a:ext cx="263700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655640" y="1952640"/>
            <a:ext cx="72900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Comic Sans MS"/>
              </a:rPr>
              <a:t>Professional Learning for Mathematics Leaders and Coaches—</a:t>
            </a:r>
            <a:r>
              <a:rPr b="0" i="1" lang="en-US" sz="3600" spc="-1" strike="noStrike">
                <a:solidFill>
                  <a:srgbClr val="0d469b"/>
                </a:solidFill>
                <a:latin typeface="Comic Sans MS"/>
              </a:rPr>
              <a:t>Not just a 3-part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DC1-C626-4C30-9B93-F1EE061D39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EBA-B137-4A21-927A-13F913720E9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47640" y="1521000"/>
            <a:ext cx="785484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try an exam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600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DF64-783A-4F9A-BBA5-166ECE31674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tart with one of the open questions from last ses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8728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DEE-97F9-4376-9B6B-A8D8C218AA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2023920"/>
            <a:ext cx="82072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y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31640" y="7286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6DD1-3DFF-451A-8F6C-439C5F9A698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76360" y="3789360"/>
            <a:ext cx="781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ld one of your patterns be 1, 4, 9, 16,…? Exp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5892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8360" y="202392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51E2-FB4D-4F40-9CE7-40EE7D341B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2133720"/>
            <a:ext cx="8281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were describing your pattern to another student, what information would you give th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87280" y="54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68360" y="1449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414-1787-464D-B809-3CDE84A26E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71640" y="317664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 2, 5, 8, 11, 14,…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, 10, 15, 20,… really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8360" y="1521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87280" y="54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Discuss at your table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0200" y="20239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ow do the three questions help students with scaffolding their thinking to answer the open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03280" y="375300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Questi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two linear growing patterns that are really similar.  How are they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304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How does the Big Idea and the Lesson Goal impact the questions you are asking for scaffold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9423-A3F1-4126-BB3B-6210024EEE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00" y="206064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most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2       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836640"/>
            <a:ext cx="8588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other example from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B99-A01D-4758-BC50-CC035F40C82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6000" y="1449360"/>
            <a:ext cx="8640720" cy="48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ould you be looking for to decide if two graphs were a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Do any of the graphs go through the same poi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any of the graphs open in the same dir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Are any of the graphs congruent to other graph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476280"/>
            <a:ext cx="842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96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What’s My Number?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3336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the number of brothers you have b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b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number of sister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by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number of living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number is:   ____  ____ 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3280" y="598500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r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5985000"/>
            <a:ext cx="106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s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4000" y="5950080"/>
            <a:ext cx="167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grand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F1F9-AC1A-405E-B2E6-0FB061E1273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243828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one of the Scaffolding Thinking Prompts do you lik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3964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759-734F-452E-B12E-22B80EBD963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76360" y="2438280"/>
            <a:ext cx="8208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takes more than 5 English words to describe an algebraic expression that has one term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algebraic and verbal expressions b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lgebraic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31AC-680E-46C4-A770-CE9AAA1B5D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58920" y="1628640"/>
            <a:ext cx="84978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English words does it take to describe 2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ld the algebraic expression be 2n+3? Why or why no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terms would the expression “a number squared”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24000" y="368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Scaffolding Thinking Prom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caffolding Task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open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under what conditions would you use those scaffold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87280" y="4616280"/>
            <a:ext cx="2384280" cy="844560"/>
            <a:chOff x="1187280" y="4616280"/>
            <a:chExt cx="2384280" cy="844560"/>
          </a:xfrm>
        </p:grpSpPr>
        <p:sp>
          <p:nvSpPr>
            <p:cNvPr id="118" name=""/>
            <p:cNvSpPr/>
            <p:nvPr/>
          </p:nvSpPr>
          <p:spPr>
            <a:xfrm>
              <a:off x="1187280" y="46162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09040" y="46162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7280" y="52498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09040" y="5249880"/>
              <a:ext cx="112176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31160" y="4616280"/>
              <a:ext cx="14040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1160" y="5249880"/>
              <a:ext cx="140400" cy="2109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5" descr="Picture 1.png"/>
          <p:cNvPicPr/>
          <p:nvPr/>
        </p:nvPicPr>
        <p:blipFill>
          <a:blip r:embed="rId1"/>
          <a:stretch/>
        </p:blipFill>
        <p:spPr>
          <a:xfrm>
            <a:off x="4284720" y="3933720"/>
            <a:ext cx="42116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9960" y="855720"/>
            <a:ext cx="72885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Calibri"/>
              </a:rPr>
              <a:t>This picture shows that 4x + 2 = 2 (2x + 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92000" y="1341360"/>
            <a:ext cx="4904640" cy="1420560"/>
            <a:chOff x="792000" y="1341360"/>
            <a:chExt cx="4904640" cy="1420560"/>
          </a:xfrm>
        </p:grpSpPr>
        <p:sp>
          <p:nvSpPr>
            <p:cNvPr id="127" name=""/>
            <p:cNvSpPr/>
            <p:nvPr/>
          </p:nvSpPr>
          <p:spPr>
            <a:xfrm>
              <a:off x="792000" y="1341360"/>
              <a:ext cx="230796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99960" y="1341360"/>
              <a:ext cx="230796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000" y="2407320"/>
              <a:ext cx="230796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9960" y="2407320"/>
              <a:ext cx="230796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7920" y="1341360"/>
              <a:ext cx="288720" cy="35532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7920" y="2407320"/>
              <a:ext cx="288720" cy="3546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4a7ebb"/>
              </a:solidFill>
              <a:miter/>
            </a:ln>
            <a:effectLst>
              <a:outerShdw dist="1260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4200" y="3175560"/>
            <a:ext cx="723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no matter what x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•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Explain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•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Now draw another picture that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another equation that is true no ma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Calibri"/>
              </a:rPr>
              <a:t>what x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5676-C62C-4AB7-94E6-370D32F628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9640" y="1233360"/>
            <a:ext cx="82454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raph the 2 lin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1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st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is 3x + 2y = 6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2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 is –x + 3y = 17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 third line lies between them. What might its equatio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CD3-80F6-4E05-9223-915D416F91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D55E-8633-43C7-9382-C04F6706004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920" y="2565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d469b"/>
                </a:solidFill>
                <a:latin typeface="Arial"/>
              </a:rPr>
              <a:t>Break</a:t>
            </a:r>
            <a:endParaRPr b="0" lang="en-US" sz="5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1438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BA3-0467-45DD-AD28-8699E9F960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very problem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ral scaffolds are also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Inside/Outside Circl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920" y="1125360"/>
            <a:ext cx="8229600" cy="37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erson from your board go to one of the four co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in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 an interesting aspect  from the ‘view &amp; discuss’ or ‘do’ that you participated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re the Big Ideas impacting your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is more comfortable for you: Open or Parallel Task,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are you using the MATCH Template and/or PPQT to help you with lesson pla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3F6-DDA8-4191-AB2D-7DC927D8F1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143000" y="243828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e you thought about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Fail 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0E3-489D-4BA4-B84C-A838942319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276720" y="1808280"/>
            <a:ext cx="5614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useful source for general scaffolds is available in the mathematical process package in TIPS on the Edugains webs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16000" y="657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General &amp; specific scaf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 rot="20886000">
            <a:off x="684000" y="1699920"/>
            <a:ext cx="1725480" cy="21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95640" y="1700280"/>
            <a:ext cx="5581800" cy="465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001-8046-4526-8F53-9D0940636EE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58920" y="1916280"/>
            <a:ext cx="424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the parallel task, decide what possible scaffolds might be need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50920" y="47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Your turn to scaff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2097000"/>
            <a:ext cx="3851280" cy="310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Looking at Student Wor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pick one of the student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eedback would you give students to move them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ith another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49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469b"/>
                </a:solidFill>
                <a:latin typeface="Arial"/>
              </a:rPr>
              <a:t>Lunch</a:t>
            </a:r>
            <a:endParaRPr b="0" lang="en-US" sz="6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00720" y="3105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EDE-9B15-4280-A08F-66037022D4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92000" y="2133720"/>
            <a:ext cx="7774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ocus is not on evaluation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39640" y="8366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0C1A-093E-4117-820E-A638623C9A6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47640" y="1881360"/>
            <a:ext cx="7810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39640" y="657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4284720" cy="472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way to represent the pattern with the general term 3n +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925 a term in the pattern? How do you kn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0920" y="1160280"/>
            <a:ext cx="4038840" cy="472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way to represent a pattern where each term value is eight times the term numb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925 a term in the pattern? 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0120" y="6093000"/>
            <a:ext cx="797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goal: Represent the general term of a linear grow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89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ossible Scoring Sche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6080" y="1650240"/>
            <a:ext cx="51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ld be marked as a 6-mark ques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059560"/>
            <a:ext cx="880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3 marks for a really good representation of the pattern which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that you are representing the right pattern (which is the most important t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withou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6840" y="3234240"/>
            <a:ext cx="68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 mark for correctly deciding whether 925 is in the patte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9600" y="3933000"/>
            <a:ext cx="84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2 marks for a complete explanation for why 925 is or is not in th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1203-F389-48C3-9BD6-82F24882E8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50920" y="1449360"/>
            <a:ext cx="3816360" cy="524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 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and justify each step you would use in solving the equation without using a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9528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80920" y="5265720"/>
                <a:ext cx="2124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824360" y="1484280"/>
            <a:ext cx="4032360" cy="545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 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and justify each step you would use in solving the equation without using a calcul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5 x – 4.2 = 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vincial-level Evide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2" name="Rectangle 2"/>
          <p:cNvGraphicFramePr/>
          <p:nvPr/>
        </p:nvGraphicFramePr>
        <p:xfrm>
          <a:off x="1447920" y="1312920"/>
          <a:ext cx="6172200" cy="54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12920"/>
                    <a:ext cx="617220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5CA-AB0B-4CA6-876E-F26D7C5FBA8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87280" y="1341360"/>
            <a:ext cx="4176720" cy="420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etch graphs of  y =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      y =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how the graphs are alike and differen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6836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680000" y="1305000"/>
            <a:ext cx="4178160" cy="420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sk B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etch graphs of  y =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      y = -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ll how the graphs are alike and differen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558972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Which of those things could you have predicted without sketching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7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Possible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1392480"/>
            <a:ext cx="76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 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ine the effects of th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wo graphs of the same type of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2313000"/>
            <a:ext cx="8055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0A64-5D50-4EB9-8F29-2E862C061D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287280" y="1484280"/>
            <a:ext cx="839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68360" y="47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Example 3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" y="1637280"/>
            <a:ext cx="9137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n equation to solve wher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 is an integer. Solve it in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different ways, explaining your thin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you had chosen an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the solution turned out to be a f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your methods would be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kely to help you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 possible Rubric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697960" cy="2103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47320" y="504828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earning Goal:  Different representations of equation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ore useful depending on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841E-A50F-4849-BCCE-4F3C1CA63F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76360" y="224172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scribe a number of examples of measurements or situations that would model direct variation. What is it about them that makes the variation di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A580-D716-4E61-85D9-E214D54F68E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ive as many reasons as you can to explain why there are many quadratic relations that pass through the points (0,0) and (2,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CF1-7E77-495F-A5A9-F523A9FB50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or marking scheme before posing such questions to help students meet succ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It is importan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A03-B249-4CF0-8F89-7E59132E91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243828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Assess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512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Break ou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274428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Student Samples (Assessment for 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ing Scaffold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ing Open &amp; Paralle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Consolidat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1640" y="162864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Move to one of the following areas of inter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rovincial-level Evide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graphicFrame>
        <p:nvGraphicFramePr>
          <p:cNvPr id="65" name="Rectangle 2"/>
          <p:cNvGraphicFramePr/>
          <p:nvPr/>
        </p:nvGraphicFramePr>
        <p:xfrm>
          <a:off x="1447920" y="1295280"/>
          <a:ext cx="647676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47676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BCD6-9924-4DAA-9391-49E429017D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55640" y="2276640"/>
            <a:ext cx="76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r “big idea” for this PLMLC series is that if you think more broadly about what you are focusing on in instruction, you are more likely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68C4-C10D-49DA-8CC7-5B91F24C16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26920" y="155736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503280" y="441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Summarizing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Comic Sans MS"/>
              </a:rPr>
              <a:t>Work in Boards Grou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moving forward with the ideas we have been workin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ors will be happy to join your team if you want a different set of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n another board to shar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56FE-E4D8-4A14-B2A4-DBE3932ECA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920" y="2149560"/>
            <a:ext cx="83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re welcome to ask any questions or offer any insights on what we’ve discussed in today’s plenary 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Comic Sans MS"/>
              </a:rPr>
              <a:t>Your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ext Steps – Professional Lear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January to June 2010 with all expenses paid by the ministry - possible the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to Grade 8+ Mathematics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room Management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ategic planning work sess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ustomized provincial-level support through Jeff Irvine, Myrna Ingalls, Demetra Sald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postings on www.edugains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Board-level Evidence and BIP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on DSB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9-10 Math GAINS Transition Project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borough Victoria Northumberland Clarington CDSB 2-part roving Math GAIN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Essex CDSB roving Math GAIN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xt Steps – Materi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to Grade 8+ Mathematics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e bands K-1, 2-3, 4-5, 6-7, 7-8, ?-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ed on Number Sens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just a workbook” for students and “guide” for learning facilitat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nded for home use, but good for other applic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part lessons with 4 parallel questions addressing the same learning goa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ltiple solutions with scaffolding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Next Steps – Professional Learning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s January to June 2010 with all expenses paid by the ministry - possible the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 to Grade 8+ Mathematics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assroom Management Package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rategic planning work session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ustomized provincial-level support through Jeff Irvine, Myrna Ingalls, Demetra Sald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postings on www.edugains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349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469b"/>
                </a:solidFill>
                <a:latin typeface="Comic Sans MS"/>
              </a:rPr>
              <a:t>Addressing Questions from Session 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173664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1:38:57Z</dcterms:created>
  <dc:creator>PSteele</dc:creator>
  <dc:description/>
  <dc:language>en-US</dc:language>
  <cp:lastModifiedBy>PSteele</cp:lastModifiedBy>
  <dcterms:modified xsi:type="dcterms:W3CDTF">2009-11-19T00:02:57Z</dcterms:modified>
  <cp:revision>482</cp:revision>
  <dc:subject/>
  <dc:title>Slide 1</dc:title>
</cp:coreProperties>
</file>